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0AD-DA84-4038-B537-A8282507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E5F-3F21-426C-9281-9C688077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21E-A18A-4817-BD7D-519F7349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836-C372-4F06-B723-8097785F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D293-B9DB-455D-81F6-C11DDA9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A13-30B5-4D52-A6B2-9BB987A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2A1-CAF5-4C20-B66C-1C0CF71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F42C-79FE-4218-8CBD-8F81FD22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0980-DCB2-4EB8-AF77-DC8D2E8C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836B-DA3E-4B9D-BC92-A623737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0701-B4B0-4D1A-853E-1376260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E64-51ED-48D7-8E7D-624B395F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7234-B463-4CE3-BD63-0C2293DC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7730-0FEB-403C-BD1E-2C154D2A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32C5-5BDB-4B8D-9E83-1B6A7C9C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4972-C9FF-4D0D-80AD-40542EA8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6661-43A7-43DE-9054-9F0F1CD6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957-0043-4738-8C21-CB8C8786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864-08A1-496B-9580-BBDBF01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20E-1DAC-4177-B6B9-CF81E90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90A-7E6F-444A-82B7-AD880EDD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83E-DFF3-4A83-9C59-C3A31C9A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402-BD30-4E42-8EA5-6C3DDD4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736-808D-4382-85D1-142220FE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6AF8-5126-44F6-93EC-FEA7DCB2307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1E7B-8D87-4591-AF03-FC47866A60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allrecipes.com/Recipes/Pasta/Macaroni-and-Cheese/Top.aspx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971800"/>
            <a:ext cx="8229600" cy="1139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Jeterra Walla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686800" y="655308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ing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1676520"/>
            <a:ext cx="8467560" cy="2152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b2b2b2"/>
                </a:solidFill>
                <a:latin typeface="Perpetua Titling MT"/>
              </a:rPr>
              <a:t>My favorite </a:t>
            </a:r>
            <a:endParaRPr b="0" lang="en-US" sz="7200" spc="1" strike="noStrike">
              <a:ln w="9360">
                <a:solidFill>
                  <a:srgbClr val="3399ff"/>
                </a:solidFill>
                <a:miter/>
              </a:ln>
              <a:solidFill>
                <a:srgbClr val="b2b2b2"/>
              </a:soli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b2b2b2"/>
                </a:solidFill>
                <a:latin typeface="Perpetua Titling MT"/>
              </a:rPr>
              <a:t>websites include</a:t>
            </a:r>
            <a:endParaRPr b="0" lang="en-US" sz="7200" spc="1" strike="noStrike">
              <a:ln w="9360">
                <a:solidFill>
                  <a:srgbClr val="3399ff"/>
                </a:solidFill>
                <a:miter/>
              </a:ln>
              <a:solidFill>
                <a:srgbClr val="b2b2b2"/>
              </a:solidFill>
              <a:latin typeface="Perpetua Titling MT"/>
              <a:ea typeface="Perpetua Titling M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My favorite foo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3200400"/>
            <a:ext cx="769644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Fajitas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macaroni and cheese,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ekton Pro Ext"/>
              </a:rPr>
              <a:t>and crawfish.</a:t>
            </a:r>
            <a:endParaRPr b="1" lang="en-US" sz="1800" spc="1" strike="noStrike">
              <a:ln w="9360">
                <a:solidFill>
                  <a:srgbClr val="3399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ekton Pro Ext"/>
              <a:ea typeface="Tekton Pro Ex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17524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I’m good 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31240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cing, cooking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otograph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Bradley Hand ITC"/>
              </a:rPr>
              <a:t>If I Could I Would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Be a direct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 </a:t>
            </a:r>
            <a:r>
              <a:rPr b="1" lang="en-US" sz="6000" spc="-1" strike="noStrike">
                <a:solidFill>
                  <a:srgbClr val="010199"/>
                </a:solidFill>
                <a:latin typeface="Bradley Hand ITC"/>
              </a:rPr>
              <a:t>of my own dance team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0101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66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99ff"/>
                </a:solidFill>
                <a:latin typeface="Bickham Script Pro Regular"/>
              </a:rPr>
              <a:t>My Favorite Teacher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Pink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Guill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W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66"/>
                </a:solidFill>
                <a:latin typeface="Arial"/>
              </a:rPr>
              <a:t>If I Could I Would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ave told my grandfather I loved him before he passed aw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et my own apt and live life in the fast l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dd more hours to the day, so that I could see everyone I lo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Help the children in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n 10 Years I will b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Working at a plant called Motiva or directing an high school dance t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10199"/>
                </a:solidFill>
                <a:latin typeface="Arial"/>
              </a:rPr>
              <a:t>My Favorite athletes, singers, and dancers are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743200" y="52574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chel Jordan, Beyonce Knowels, and the Southern University Dancing Do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74320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666880" cy="3276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1600200"/>
            <a:ext cx="3048120" cy="365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02Z</dcterms:created>
  <dc:creator>762703</dc:creator>
  <dc:description/>
  <dc:language>en-US</dc:language>
  <cp:lastModifiedBy>762703</cp:lastModifiedBy>
  <dcterms:modified xsi:type="dcterms:W3CDTF">2008-10-28T16:04:28Z</dcterms:modified>
  <cp:revision>9</cp:revision>
  <dc:subject/>
  <dc:title>I’m good at</dc:title>
</cp:coreProperties>
</file>